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6AEC7-808C-4A88-BB58-6A5C78270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33F8E-856A-4FD8-80B4-4026651FF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9CF97-F7D0-4CD6-BBD3-D9FE02D3C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66AF9-A15B-4B92-8605-DE6889C09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6E525-D9C5-4E38-8FE4-7865CAD75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F2C37-D70E-466E-A70C-CD6F98D27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F1886-9DDB-4569-9337-08FF5705B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FD7A8-A99C-4D28-B88F-B5E750326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3784B-5DC3-45C1-A659-C190F724D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99FA9-E975-4F3C-8DA7-A19E2725B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FBE33-6AE8-4B4C-8EEA-7A6CAF5B1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31277-2CCB-473A-A15A-97702166A6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E4BDF-5D72-4CDC-B946-0E861B3D2BA1}"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764640"/>
            <a:ext cx="7772400" cy="453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Environmental Impacts Of Population Growth</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at Happens Next?</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the population of the world continues to grow at an ever increasing rate, the pressure on natural resources such as food and fuel also increase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1798 Thomas Malthus produced an interesting theory on how population and food resources might continu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 said that as the population continued to grow at a geometric rate, it would slowly catch up the food supply, which only grew arithmetically.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meant that at some point the food supply would not be enough to support the population and so the population would have to be curbed in some way.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lthus theorised that this would either be by policies to reduce the number of children being born, or by war, famine and diseas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http://www.fordham.edu/halsall/mod/lect/malthus.gif"/>
          <p:cNvPicPr/>
          <p:nvPr/>
        </p:nvPicPr>
        <p:blipFill>
          <a:blip r:embed="rId1"/>
          <a:stretch/>
        </p:blipFill>
        <p:spPr>
          <a:xfrm>
            <a:off x="0" y="189000"/>
            <a:ext cx="9144000" cy="630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Reality</a:t>
            </a:r>
            <a:endParaRPr b="0" lang="en-US" sz="4400" spc="-1" strike="noStrike">
              <a:solidFill>
                <a:srgbClr val="000000"/>
              </a:solidFill>
              <a:latin typeface="Calibri"/>
            </a:endParaRPr>
          </a:p>
        </p:txBody>
      </p:sp>
      <p:sp>
        <p:nvSpPr>
          <p:cNvPr id="4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65 Esther Boserup put forward a different theory claiming that humans will develop new technologies to increase food production whenever they need t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because humans are the most resourceful animals on the planet, and so have developed new technologies and methods to cope with the increasing resource demands of a growing pop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Boserup’s Basic Theory</a:t>
            </a:r>
            <a:endParaRPr b="0" lang="en-US" sz="4400" spc="-1" strike="noStrike">
              <a:solidFill>
                <a:srgbClr val="000000"/>
              </a:solidFill>
              <a:latin typeface="Calibri"/>
            </a:endParaRPr>
          </a:p>
        </p:txBody>
      </p:sp>
      <p:pic>
        <p:nvPicPr>
          <p:cNvPr id="48" name="Picture 2" descr="http://upload.wikimedia.org/wikipedia/en/7/74/Graph_boserup.JPG"/>
          <p:cNvPicPr/>
          <p:nvPr/>
        </p:nvPicPr>
        <p:blipFill>
          <a:blip r:embed="rId1"/>
          <a:stretch/>
        </p:blipFill>
        <p:spPr>
          <a:xfrm>
            <a:off x="468360" y="0"/>
            <a:ext cx="8244000" cy="607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echnological Advancements</a:t>
            </a:r>
            <a:endParaRPr b="0" lang="en-US" sz="44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gricultural Revolution, which included breeding cattle and sheep, which produced more milk, meat and wool.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also developed new technologies to evenly sow seeds, plough more efficiently and use their land more effectivel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Green Revolution.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ntroduced high yield seeds to developing world areas, such as India.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eeds could also be developed to cope with the drier conditions that they might experience in some of these area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echnological Advancements</a:t>
            </a:r>
            <a:endParaRPr b="0" lang="en-US" sz="4400" spc="-1" strike="noStrike">
              <a:solidFill>
                <a:srgbClr val="000000"/>
              </a:solidFill>
              <a:latin typeface="Calibri"/>
            </a:endParaRPr>
          </a:p>
        </p:txBody>
      </p:sp>
      <p:sp>
        <p:nvSpPr>
          <p:cNvPr id="52" name=""/>
          <p:cNvSpPr txBox="1"/>
          <p:nvPr/>
        </p:nvSpPr>
        <p:spPr>
          <a:xfrm>
            <a:off x="457200" y="1599840"/>
            <a:ext cx="8229600" cy="525780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introduction of irrigation systems into developing countries.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Both large scale and small scale projects have been used to increase irrigation of crops in countries in Africa and Asia.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ells and canals are now commonly built to help communities to make the best use of their land.</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Better technology allowing more intensive farm yields.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aster growing plants varieties have allowed farmers to have two harvests a year from a single field.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ore effective fertilisers have meant that soil has been made more fertile.</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Genetically Modified crops could also prove to be one of these advancements, although they are in only the early stages of development at the moment.</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EDC’s: Rapid Population Growth</a:t>
            </a:r>
            <a:endParaRPr b="0" lang="en-US" sz="4400" spc="-1" strike="noStrike">
              <a:solidFill>
                <a:srgbClr val="000000"/>
              </a:solidFill>
              <a:latin typeface="Calibri"/>
            </a:endParaRPr>
          </a:p>
        </p:txBody>
      </p:sp>
      <p:sp>
        <p:nvSpPr>
          <p:cNvPr id="54" name=""/>
          <p:cNvSpPr txBox="1"/>
          <p:nvPr/>
        </p:nvSpPr>
        <p:spPr>
          <a:xfrm>
            <a:off x="457200" y="1599840"/>
            <a:ext cx="8229600" cy="525780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destruction of large areas of rainforest, for use as farming land.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is has particularly occurred in Brazil and in central Africa.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impacts of destruction like this, can not be easily calculated as it may well add the global warming problem.</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arming areas are being put under increasing pressure, and are being over-used, either for crops or cattle.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is is leading to a reduction in the nutrients available in the soil and to soil erosion, both of which mean the land is less likely to produce enough food.</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increasing use of technologies such as fertilisers is causing problems of water pollution, which may endanger the lives of people who use the rivers for drinking water and for washing i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05:11:33Z</dcterms:created>
  <dc:creator>Dell_02</dc:creator>
  <dc:description/>
  <dc:language>en-US</dc:language>
  <cp:lastModifiedBy>Dell_02</cp:lastModifiedBy>
  <dcterms:modified xsi:type="dcterms:W3CDTF">2011-01-25T05:22:03Z</dcterms:modified>
  <cp:revision>2</cp:revision>
  <dc:subject/>
  <dc:title>Environmental Impacts Of Population Growth</dc:title>
</cp:coreProperties>
</file>